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D0A8-21E9-4762-B36B-776ED7B25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8B44-CC07-4AB5-8342-3BA32AED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E033-E14F-4A03-98FC-2BF2C9587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322F-981D-4A00-BD0E-3E33EC704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CD21-12CF-4A9B-826D-96CE386E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073C-A9FE-41C0-B70E-5B15744B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05AA-0580-4E7C-85DB-CE821DAE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3B2E-0796-47AE-9C4F-001470D2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23D6-7D4C-48DE-8EC8-D648AE5E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604C-363C-4FF6-A830-BE8BE550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AC4F-C88D-4ECA-B1EE-C3351855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6191-B899-4CDA-B120-B6D9DC1C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CDDB-C3A2-4546-9DBC-C7537BC34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ROECONOMICS IN ONE 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3123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ING THE ECONOMY- G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ING THE ECONOMY-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CITS/SURPLUSES AND DEB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an and should the government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and Monetary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MINAL GD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DP IN CURRENT DOLLARS- NOT ADJUSTED FOR PRICE INDEX (LEVEL)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IND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urrent Dollar (Nominal GDP) is adjusted by the Price Index.  The Price Index is determined by the extent that inflation or deflation has effected the value of a Dollar ($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year – not too far off-- selected to act as the base yea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any change in the value of the Dollar the Price Index is 1.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10% increase in prices would result in a Price Index of 1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10% decrease in prices would result in a Price index of .9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justing- The final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se year GDP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 YEAR GDP divided by 1.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(constant dollar GDP)= Nominal (current dollar GD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equent Year GDP is Nominal GDP divided by the New Price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DPYR2/price index yr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S GDP A GOOD MEASUREMENT FOR EVALUATING THE ECONOM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2209320"/>
            <a:ext cx="83818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DURING THE DEPRESSION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eriod with 40% decrease in G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s recorded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ransactions are not recor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would they affect G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hould be recor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would it affect G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GDP A MEASURE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ALITY OF L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DP IS OFTEN USED AS A MEANS OF MEASURING ONE COUNTRIES OUTPUT OR WELL-BEING TO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ING THE 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 Department and Commerce Depar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reau of Economic Statis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DP- Real GDP of 3-4.5% -&gt;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inc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’s the economy hea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t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ion per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incid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tatitistics can help us understand what the economy is doing at this mo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ing 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r sent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#s should tell us how bad the economy 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m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iness 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8088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sion- Peak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aspect—GROWTH-Bigger pie to share, possible Budget Surpl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 of 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ssion- T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?-Not many, causes businesses to streamline-&gt;become more 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interest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-&gt;loads-&gt;Unemployment, lower incomes, social ills- BIG DEFIC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er R. Reagan- the Difference btw Recession and Depress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my neighbor loses his/her job-&gt;Rec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 lose my job-&gt;De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SS DOMESTIC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MENT OF THE TOTAL OUTPUT OF THE ECONOMY IN A GIVEN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VALUE approx $13 Tr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dget surplus/defic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es to Government Spending and Reve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nue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level- Primarily income 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times, revenue up, bad times s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essive Ta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gnifies good and bad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 year—as % of economy lowest on record-14.8% of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 purchases and expendi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sion-go down? May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ssion- sky rocketSSS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OUNTERCYCLICAL POLICY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Keynesian economics- jump start the economy through government sp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timulus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UTOMATIC STABILIZERS---UNEMPLOYMENT INSURANCE, WELFARE, FOOD STA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ast year Government expenditures 25% of economy—60 year recor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cits/Debt and Surp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lculate Government Spending less Government Reve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Positive—Surplus (rare), some say bad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egative- Deficit (common) some say good, unless unwieldly or if it “crowds out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t—if you regularly run deficits you’ll create Debt (debt is accumulated defic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 Deficit/Deb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049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expenditures HU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revenue- Historically incredibly low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—HUGE DEFICITs -10%+ OF ECONOMY- 1.5 trillion dollar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parties contribute to Deficit—Dems—spending side, Reps-revenue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bt- over $10 Trillion –is that big? Deficits since 1960s except under Carter and Clin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hould government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ertarians-NADA- Laissez-Faire—have faith it’ll all work out, don’t screw up the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one else---something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POLICY- TAX AND SPEND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TARY POLICY- MONEY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SCAL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0492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ive Branch and Legislative Bra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ident Proposes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ress passes bills—create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 and Spend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entive---pass bills that reduce taxes and spend m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ve Bra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ice Management Budget-(OM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cil of Economic Advi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sury, Commerce, Labor et. 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gressional Budget OfficeC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ys and Means Committee, Budget et. 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e, Commerce et.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etary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088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y, Money, and Mo Money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’s in Char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EDERAL RESE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D 1913- STABILIZE THE GROWTH OF THE MONEY SUPPLY, OVERSEE AND REGULATE THE BANKING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d Reserve Chairman- appointed by President- 4 year term- TODAY BEN BERNAN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ood Federal Reserve- Is INDEPENDENT OF THE POLITICAL PROCES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ing the Thermos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 hot-uh oh! Inflation?--slow down the economy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interest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 cold-uh oh! Unemployment?----heat up the economy-&gt; lower interest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lation/Def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ation-&gt;value of a $ declines, takes more $$$ to buy the same set of goods/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lation-&gt;value $ 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ation helps people who borrow at fixed rates, hurts people who lend and people on a fixed income (deflation is oppos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 inflation-current 2-3%, post WW2 high was appr. 12% in the late 197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inflation- 100s of % in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ing Inflation/Def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DP -&gt; PRICE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mer inflation- CPI—basket of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r Price Inflation- PPI (cost of resources for Produc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incorporate a base year as a unit of measur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lie with the “basket” of goods– improvements-and bells and whistles often aren’t fully inclu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loyment/Unemploy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 Force -&gt;population employed or actively looking for work (18-6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 Participation Rate-&gt; Labor Force divided by Total # of people 18-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employed- actively looking fo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in measurement, underemployment, part-time employment, underground economy, those who gave up loo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MPUTION + INVESTMENT + GOVERNMENT SPENDING + (EXPORTS-IMPOR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Unemploy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al- Changes in what society produces, how it produces it, where it produc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, auto worker unemployed in Mi. but position for high tech Google unfilled in C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clical- Consistent with the business cycle- good times low-bad times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ctional- EG Those who left their jobs voluntarily but don’t’ yet have another j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always count on rough 3 to 4% unem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1476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mployment Rate et. 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yclical Unemployment tied to Phillips Curve— Inflation and Unemployment inversely relat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urrent Unemployment Rate 9%, peak post War- early 1980s 10%.  Depression?- 2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blem today- Long Term Unemployed—social 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agflation—late 70s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high inflation, high unemployment and slow growth (pushed out Phillips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DP must grow by 2.5% to keep unemployment from r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itlement programs will be a big problem in 10+ years may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w economy will exacerbate deficit/debt problems—Keynes might say—so w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ffer Curve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w taxes-&gt; more govt revenue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t true at current tax levels, though taxes do cause people to change their behavior and does increase underground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5-70% OF G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ED” (ON THE BOOKS) SALE OF AL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OODS AN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NCLUDE ILLEGAL TRANS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ALE OF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VALUE JUD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-1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STOCK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LANTS, MACHINER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S USED TO PRODUCE A GOOD OR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Y IS INCLU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MENT SPE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-15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GOVERNMENT SPENDING, BUT NOT TRANSFER PAY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05080" indent="-19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DERAL (WASHINGTON D.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5080" indent="-19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(HARTFO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5080" indent="-19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(DARI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5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5080" indent="-1940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OOD TIMES GOVERNMENT SPENDING LOWER THAN IN BAD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ORTS &amp; IM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 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S AND SERVICE SOLD ABROAD (EXPO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S AND SERVICE FROM ABROAD PURCHASED IN THE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ternative way to measure GD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money earned in a given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tal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nditure GDP (C+I+G +(X-M))=Income GDP (see abo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 GD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DP ADJUSTED TO REFLECT INFLATION OR DEF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MPARE APPLES TO AP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CALLED “CONSTANT” DOLLAR G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11:28:55Z</dcterms:created>
  <dc:creator>Darien Public Schools</dc:creator>
  <dc:description/>
  <dc:language>en-US</dc:language>
  <cp:lastModifiedBy>Local User</cp:lastModifiedBy>
  <dcterms:modified xsi:type="dcterms:W3CDTF">2011-11-09T17:15:57Z</dcterms:modified>
  <cp:revision>16</cp:revision>
  <dc:subject/>
  <dc:title>gdp</dc:title>
</cp:coreProperties>
</file>